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CCB8-79B8-4227-B87E-5A210434F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 Del Sueno – low al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 Del Sueno – high al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dictions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s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diction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dictions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s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AC2-DD18-4234-B13B-92BE1ED2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891-4F80-4615-9B50-6B50996A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718-C407-41EC-B319-2D231E49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21E-A0FE-4F84-AA64-06E2472B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03F-49D8-4658-9C41-F18E0F96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E57-F391-483A-A1F0-36CA44CE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E2D-4B75-4294-95FE-25200D89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D01-8341-4677-B619-594D8401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928-0010-4A2D-BC8E-48820D3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E2E-91EA-48BF-B397-4A9DAEA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902-9FBD-4EB7-94D1-E916E540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8B6-24CB-4717-926F-D7ACAC93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AB49-DA2A-4371-A262-E8A493896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8400" y="649116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 Del Sueno – low 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2800" y="64911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 Del Sueno – high 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37160" y="6491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37160" y="64911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diction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42800" y="6491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ing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37160" y="64911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diction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66480" y="6491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ing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89440" y="64911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diction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66480" y="6491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ing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29:32Z</dcterms:created>
  <dc:creator>Staff</dc:creator>
  <dc:description/>
  <dc:language>en-US</dc:language>
  <cp:lastModifiedBy>Staff</cp:lastModifiedBy>
  <dcterms:modified xsi:type="dcterms:W3CDTF">2008-07-22T15:32:55Z</dcterms:modified>
  <cp:revision>2</cp:revision>
  <dc:subject/>
  <dc:title>Slide 1</dc:title>
</cp:coreProperties>
</file>